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319351"/>
        <c:axId val="64964986"/>
      </c:barChart>
      <c:catAx>
        <c:axId val="523193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964986"/>
        <c:crosses val="autoZero"/>
        <c:auto val="1"/>
        <c:lblAlgn val="ctr"/>
        <c:lblOffset val="100"/>
        <c:noMultiLvlLbl val="0"/>
      </c:catAx>
      <c:valAx>
        <c:axId val="649649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193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B59B-475A-4084-A3BE-00493B358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3579-1FD4-4F06-83EE-1FF00D5A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27C4-EF36-4F09-8896-F9D815EB3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BC84-20E9-4A75-960E-4C87DB6D6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BEF2-7694-4FCA-9B3A-C8386271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C98E-B33E-403E-B710-F4D6E77F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4298-CCD8-4EB2-857D-C6E3056D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5039-9AA0-4731-A7AB-469FE965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C5C9-C82A-42E6-8AB2-0CBFE92E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AA19-2696-46E0-9B20-1E78ECED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D545-BD87-41F9-AEE8-D317B9CC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B630-784A-412A-A2D2-E651C0AB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AE9F9-25AD-422B-A44A-0CE26D4F44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